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348-448C-4031-8309-0575FBE0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BE6-6E18-4826-9E2C-4C3E4AB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BF669-3EB1-4A9F-9971-DFE6A8AA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84976-7455-45D6-BB30-7F71B33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85D61-6831-4423-90D6-55A88B0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258CC-06A6-4EF8-B318-4B04032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F33F9-B1DE-48AF-A68E-8FC18C1E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D6DA6-3DD6-4A89-B408-33B1245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EB128-6940-4881-8135-2B609523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B8CD1-CF10-471A-85D5-372213F4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F30CC-699C-4377-896F-6B9142DD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1F076-CD4A-4D6E-9A32-665C0649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DC2-3F7C-4222-BAD0-78A0C4AF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2C27D-68D6-485A-9421-A12D5433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D5B40-4C0B-49F1-834D-C8FF89F8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4A3D3-66EC-4F4B-8B2A-0C8877A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4D02F-F097-4640-A330-160021AF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970CB-EE73-47ED-B913-A8F9EFF3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F85F8-3AC5-45FE-817B-B4458AC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A8777-5B6E-41E9-BB4F-CAB33024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7AE05-E0BA-48F8-8FF7-E78F2C6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8ACEF-2C02-4D37-B478-7BB69A58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3DBE-5071-478A-A77D-C265315F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2D4-40A3-47E0-B7D6-FA197DAD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8EC4D-2874-4A5E-9E5F-909A9C50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8CA82-D1E5-4E3D-80B9-10100428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F8224-4E12-462E-B6FC-B00348A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DCFE1-B858-457A-8BE9-8FD4C2C0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60B29-B6DE-4639-B5EB-B897A273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A6231-D782-442A-B056-A5B6D168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671AC-92C4-4339-968E-F9956F3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4110A-D2B4-413A-8996-7AD6EDD7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B4446-49E5-4B76-A610-8883B4E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52595-F16F-416B-AEE9-608A2BE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43D0-9FB9-4F98-B112-507C165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16377-5B44-4ADC-9D37-2D30947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76B2A-52BA-40D4-9B3A-48DF232F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8658-BD1C-48B7-91BA-38B93C9D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44051-0800-4F82-95F0-8F862BD0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5AFA9-1745-4B5B-8A07-B9D3AB93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D1235-F371-4B61-9F63-AB75D75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608A0-6B8C-4CF4-8BA8-6E22C88C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56570-23CC-4BC7-A5FB-5565F8A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48F14-9CE1-4D91-88C3-9ABEE26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AFDBC-0D3A-47EE-8FDE-58B446B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B1B3-793A-4BDC-8E50-451D379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2E05A-EA09-4108-B091-2432B1A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DA29A-6CC3-49AA-AA40-635886A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DB153-7401-44BA-B479-AC5A6A89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40010-B3C0-4D17-B3A9-65459BEF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4C773-0F7F-4AAE-AA87-F991E69D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850A8-1A30-45AF-89DB-36ED5153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6FA00-7C2E-41B5-99ED-C6C51D0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BAE2F-A260-4A22-AB53-5C6FD082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E71E9-43C6-4376-BC01-660696D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1EDF1-EF31-48C8-8B6A-5975347F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86EC-2FC6-4AF7-8F0C-735FEFAB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6E614-175D-415A-A79E-EFA6B3E2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88641-D1F4-4701-B63C-1EF0A44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CBA80-F9BB-4235-A1CF-33BCEB6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29614-3CEB-4C47-A435-59B043C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397AC-02CE-4E74-B207-68B829F5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F7AB4-23D7-4D04-9415-04F8B374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616C3-1211-4568-8DC1-675D05D7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B934F-FE83-4B8C-8B1C-F845F38E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AB7D2-A44E-4FFE-90D5-125C6D9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4175D-DC75-40DB-AEAF-C7BDFF3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1AEF-CFDB-4553-8968-B96E2B6C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AE40F-DB3A-4B73-9383-7BEC847E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75768-3766-40A0-A026-1D5B766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3EE5C-0540-44FA-8F0F-F34D0383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8984B-A2AC-49FF-834F-4D20F3B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24D22-DF77-4687-8026-762A6C4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68C96-1ED7-45FE-900A-F6C2639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771EB-7CFD-4F4A-82D0-1792F5C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26257-1A04-4335-8E3E-C7510CC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837EB-C8E4-4450-914E-9019D893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C193B-3DA5-4D15-8847-EF926E4C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DE84-EC58-4B61-A3C2-09F4B362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B4DD2-9049-4998-8A68-1D19D2F6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8FD1A-F23D-4021-A6B7-1F50DDBF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667AA-D9F4-4DB5-B160-2E160C3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F91A1-B7C6-426F-8C80-B3A8E4ED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406EF-73B1-4DDD-A077-C52B204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56B2E-250B-4AD1-AF0F-23DC6D8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29E3A-FB76-4D2D-9CF4-F2C8034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D34FC-6E46-4621-9284-D51BFBDD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96906-351D-4F47-8BDC-85CB33F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524F2-1576-4E84-836F-F6F147FD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6740-56BC-4560-BC98-0CB8955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80F20-E761-4E7E-B58F-3BA60270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C7B21-F1C5-4E23-99B2-81F6ADF7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1704D-F2FB-4309-BE41-8E5EB83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B3136-5F8B-4F61-B6C2-5C2F150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20840-BF5B-4DFC-9DBC-2B29D728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B2876-AEC7-434F-9DBC-F4516E69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E8B36-75E4-40E6-A8D8-8B2C4CD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4A071-EF92-41E8-BAC8-EEBD257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D5223-3AD1-431E-A574-69C7D0E1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16143-AA50-4239-9383-B03FC9B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91E5-080E-4302-A61D-950FDB0F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65532-8654-4ABD-B2D9-246F2A75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EC942-049C-4F5C-AEA4-C6B7E316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CC51E-9972-4399-B66D-60EBEFA7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1DD55-C62B-40DA-9CE5-73400EFB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54527-9FAB-401F-8497-1778B0C3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031B0-6A58-4607-A8FF-380CECB6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75C09-6D59-40BB-9DC5-DA48B85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6FF50-F8D5-4E38-BC01-6FDC5007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C8CB7-B822-4D0B-A23E-3CDCA98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BD01C-B904-4748-99BC-5362AA7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14F-4E4C-4FFC-B08B-3ADFEEA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921-4DE3-43EC-86F7-EEC5E555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ECD60-42D1-44F3-B326-F742E27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A01898-B353-40D6-9AA7-91876EE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9869A-162C-47DB-B2FA-46F64BF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719083-F33F-4001-8859-C476AAED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948D0-730B-42CC-ABB1-E6EE0805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32622-A16F-4B77-93E8-FF87FA51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7DD10-A987-461E-BA25-234392F9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1BA3D-DC44-416C-8250-39B39018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41304-B3E6-4089-9BF5-0FBD970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D05AE-3C31-4DAD-9863-F75414B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B91-88A5-404B-9A23-F487D84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253EA-CF03-4384-96AC-9B8E7B4D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AF727-FC9D-43E8-911D-D0FE89B4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B46C6-0E6F-4E1B-A35F-D888A2F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7346C-5B23-4B87-8F4C-F6F2549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B1E8B-6D20-4546-9D87-F807BBC9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DE237-6504-4120-A814-9C9DFC5F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A3863-A48B-443A-A573-19A010F2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B732D-0212-4F18-93D5-610A389C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44FE5-CFC0-438D-977C-CEB31F21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8A10A-0B6D-46AF-8648-2952C974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D884-6062-431D-B351-82E2DF1E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7E49E-332A-4A70-87CE-6E847B24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0B99D-7684-4895-BB9E-636910D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BE15E-5F68-4F7C-9688-59CB47DF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8A95D-CB22-4AE0-A4A4-8A17207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7009B-C64E-497C-8909-838BAF6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AFE20-C171-4296-B535-61B537C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C3CC4-AD73-4E35-A092-FF93E82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B3043-8A22-4370-84B0-3D6EC426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4B45A-F7DA-40A8-B02C-D1B3080D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79F89-E590-4920-AB6E-42D31FF1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EB5-6128-4EFB-B022-FE48701E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CB402-F25B-4FCC-9C24-01B372E0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4355D-24B7-44D1-A107-0ACAA70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A5F29-027C-4D1D-B537-79FBD4A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72F14-A45D-420E-A9F6-C81A0A3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0B49F-DF98-4D64-819F-9761B4D3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C6CA8-6F33-44C2-B1FE-A76EB9D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C77EC-CF5E-4774-9069-F1598A1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9234A-DDE1-454D-82AA-E65D280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AB6AA-4C9B-4649-B5CB-45F7A7A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6B08A1-CB4A-49FD-80FE-CC7BD3CB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E838-930A-4E35-BEA4-4AE8FA0C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D60AA-128A-45AC-A610-23D528BB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4AF18-8D6E-408D-AE51-D9DDEB49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31045-B19E-4F14-9E05-A21DE30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9B91F6-5B1F-4DC4-828C-34ED708D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A7AEC-AA52-4617-854B-A4E30C44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0708B-294C-4742-A2D9-B3EDA1C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61D11-016A-40B8-9B5B-4D5428C8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49FBC-6A05-4BFD-9455-2BAABD2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D5358-8E0B-4E04-AEF3-B778B93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B9BA7-BECB-44F1-9DB0-98026A4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EA0FF-41B6-40CE-8097-40B1E875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69293-B75A-4A9B-A953-5CD2BCD0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6AE5B-E5F3-4B36-962C-D85FE90C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37BF81-BAC6-4E41-A1FC-E4935EBD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0A8B16-8EA7-43B9-9C66-319CBAEA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F5A0F-8511-4CC2-B761-4531C644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1A948-FCF7-4091-8F6B-21A4E6E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C357E3-6A2D-4279-997D-7CDD578A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E8CF3-F9CE-47B4-82D2-0FD45B7F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6DAFF-54CA-49F2-BE6D-42DA14D2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65D281-5CAE-4605-B967-A02F6711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6FDF-3B0E-4C6B-92B4-D36A617A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9AAD8F-08A7-45F3-8A16-F19B28B1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84585A-7C15-4CCA-8882-52F7BF26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7D19F-EF7D-4D1F-A8DA-F069117F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0ED6C-1300-4C87-9FA5-E90CF0D1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2419F2-F7DB-4D55-A903-40448334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C98DF0-1620-40CC-89C2-CA3FA3D8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C5F7FD-0220-44C1-8784-CA7B65BF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EF3B8-CA26-4966-B19A-2D0F45D0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F2F15A-4728-4AAF-91DB-460F2B9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07BC85-5EEC-43A6-BAF6-8D93F34C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D4EB-74B0-4160-921E-6AC7649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6F1082-226B-4633-8BC4-CCE7CC4A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156D4-86D7-4C6D-9D77-2015C0C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9E1E4B-5C33-48B7-9B9E-DCFBE82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A903D3-135C-4605-A7EF-C656F66F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FFEAA3-F305-4BB2-BA11-A16A1B08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42725D-8DB1-496A-8E44-8861D38E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A17F7-A1E1-4EFA-8E38-6C31C222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A439FF-AF04-4891-8BB9-6EBDA673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7ADDFB-8E37-4C16-90EA-3B60C85D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CB002E-1089-4BD7-BBB1-64C781A3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C957-249D-4253-A747-EB3DBBA9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ED339-7F14-4301-9F8E-AF50C3FB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36957E-441E-469F-874B-51AF3D89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B7F4D1-ADFF-4FD7-93EF-AF4D0875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494987-7867-40AA-A1EA-5A44131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D5DE40-63E5-43E9-904E-C43E60A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58FF46-4544-433C-866C-8C7A5123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BC8C5B-D14C-44BB-B5E6-DB3CA1D1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795062-B575-436F-8883-B522AADA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998FB9-B568-4061-96A3-1E579E87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E6A802-680F-4139-A5EB-DD3055A9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C5EE-956C-433C-8736-FDBD81DD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16FE80-A1C7-44A2-89F6-F143FF80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E90204-F44C-4D91-8A98-8020994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93A04A-7488-4F09-953F-9C26DA8B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A65F53-6D4F-4B8D-B59C-BA9069E4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7468EB-0D08-456C-92A8-D9E7412D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806B95-3E24-4243-BB52-898B793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8BD6A0-851A-463C-8399-C0480E54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04E672-5AFB-4F72-AD8C-A15F53C6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4533AF-53D8-4E72-B9B0-53A3432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4B8D3D-B602-4AAD-9737-633AAA58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D04-9965-47C6-A39F-40837B75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9C4B-D69F-4B41-9901-5BBD1A1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4B153D-8B33-4A15-9C38-89875CF8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C619C8-844B-4C16-8622-14030AD6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D14515-30AA-41C8-AFE3-2EAE89AB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1EE94E-2488-49E0-9AF6-AB3B3A06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B55B4D-167E-4529-A742-F2454C3E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6A119F-F48F-4202-A484-C6883472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CE9858-9FE8-4D70-BFEA-A7B47185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697DC3-FE5E-4D9E-AAF2-9FC1D68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23F5FC-9DEC-4D8D-891E-9A32BAE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3FF50B-2FEE-4BA0-B2DB-4FF4D16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7C18-043A-4C13-B36A-38AA79B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F01852-2172-49DE-B1CD-64DEDCA3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E2B681-4640-4B13-946C-2E7B87FC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F68CB5-F8E1-4A05-B6E9-0512009D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BFF6E6-E586-4AEF-996A-6BDA659A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B059B9-C590-4DBF-A2C4-9925F29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7C8D99-B97E-4159-9756-44D8EF1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32E80B-CF57-45E0-BA73-2A413472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77C5F6-BF4D-4E6A-964A-E51EE7C5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F98A67-CCE8-4BB6-BF95-FDEACAB7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C0759A-E743-4EF0-AB7C-BCFCBD1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FE50-0A02-4744-9307-B5E14F55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2DA888-01F1-47B0-A496-CA67CB0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9B22A6-A57C-4F07-A3C4-CC54361E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7AF867-5750-4903-AD04-2F65AED6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BD7118-34CB-470B-B39F-65CE0C79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58A6BF-7B3B-4266-B543-D19EAB49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237BAD-859E-4D74-9BBE-91E22594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8160EE-7D8D-4C33-B42A-AEDCA4A8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42E549-BE24-4374-BF12-C14A761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A0AA45-936A-45D8-BEE9-8CA13955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6DC0F9-32A4-41DC-8CCD-1E386F6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4996-BF13-457F-8BB5-E9FCEE9D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EEB5D5-ACAC-446D-8616-53F723A4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919B8C-CA95-4723-891F-BC206EF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D477DF-F66C-4DA0-93B1-82E6EC4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081CA5-E836-494B-AAC3-08722E5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63CB38-A806-414D-B420-AAABB7D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C56350-ECE5-45DB-973C-7F83CD29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5A1D88-F41B-462E-95CF-061FEB51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FD515E-4F23-4256-97C4-5A9E4F5B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4B7051-AD38-4071-9806-F78F8DA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035282-8AD1-4E8C-8FC9-B2F44BF5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3009-FEC5-47AF-9D75-5652CB7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112D76-85F3-496F-AE17-049E55A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FA722E-5879-4BBB-9581-6B2EEE9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197C2-5B2B-4D8E-8243-31DA74E4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8616CB-4107-41DC-80B6-1305AD3D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380FCC-C312-4FF8-85EB-26A8273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1625F3-B673-4BEC-BAD4-457901C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3AB286-1EF7-4CDA-947E-EAE4437F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36CAD1-4526-44FE-AE61-600D5D24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D9F38C-98E2-49D1-ADD1-DB0C69AE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06F2AF-0C5F-4160-8DCA-C1159C41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DDAF-0822-4E3E-8947-B0F7FE1A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8B3C23-F02B-4ED2-967E-FB722AD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5A0B32-40D8-4055-8129-5BA4AE97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EADD27-9A84-4AEA-A8BE-74EE02D3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659BBA-3660-4097-853F-97DCF5E5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060FDA-2D7C-483D-9340-C50A5F7A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55F894-354B-4D76-B46D-C2237CD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895ADC-8E2E-4450-92B4-FE05B73A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BA77B3-CEF3-44E4-BFDB-ECB88584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699D75-FF8D-431E-8E59-1B98F3D6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BFBF74-749E-413A-8F7B-E1CD7F2D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264E-13BE-46B5-A2F8-6FE44A62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5810A5-F71D-45CA-A8D2-5243233A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0A716B-6181-41AB-B2D9-357375DC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6D67D2-CABF-4763-AFF1-D3FA2CDF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3C4FD7-2F53-445E-93A0-9264FF7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9FDFB3-9FFB-4E64-BE66-61B59470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F77FA4-8336-4D95-A0F2-EA578803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658AC5-B875-4515-9131-ABF601E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62A6F3-0976-4CDF-8A01-7222846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29C921-0855-4435-830A-8C96F05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DF9B25-3658-4761-AEE6-782DFA7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F4CFA-1CB9-4157-8509-96FDCD11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57863C-53F5-4483-AF27-77E50AA8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10D38C-5855-4B80-9A1C-736D1B27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32E06C-3B29-4B07-ABDA-FE37DA7F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89A9-3760-40C9-B840-8FDCDE7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E4CF-035F-4786-A04F-E9F5996C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D98-9202-45F3-9E0F-9AE5468B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6D6E-F086-4486-826E-1BBA713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8171-4104-43F3-8D01-A2FA736D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20EB-55D4-4393-B458-588EF19F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DED8-C0DE-46BE-BC35-804028D5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24A4-8CB7-4671-9300-2EC830F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67CE-F19B-4A60-BD9C-F5BCA98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9FB7E-CEF7-4336-841C-8766502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C6F9-3EC2-48AF-A3CF-9C89E057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C41B-CCA1-4214-9537-23433626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20898-F4EF-405D-9541-D9B90F5E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B53-EBA5-4312-93CA-D4A0CC17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A0B25-3D64-4896-BB30-3A38B625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B19C-2691-46CD-A533-0168E919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8AE9-B748-4A05-BB88-1C45FA4C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D3BF5-4054-4DE9-B14E-2999C8B9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ED3E-B11D-4568-A9F9-91181788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F075-3605-4F05-A602-DCF49CE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1748-E1A5-405D-9D0D-8FB766AC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AE74E-7B56-41B6-A6B7-217D7D7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A198-8E12-42FC-A207-53E78D78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8152-AAAA-481C-9296-B01A3791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84C-AB31-4006-BDDB-36F032CE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9B865-C4D6-402F-9B49-7629567F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8CA89-27F7-4821-AC34-0F0E2D8A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83CB2-1167-4A7C-A3F8-F939A88E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ED2C5-C353-42BA-BED2-CB05B225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7B59-CC2F-4F69-A013-082D1752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9F83-A14B-45DD-93BD-6507903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E335-B7E7-4A0E-A7D6-B045EA8F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FF0F-4D46-4CF8-8979-AA5D094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9BBE2-B20D-4C0B-A816-3E8154C1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FE5A-FE9E-4FEC-8696-ED28A78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441-075B-4B00-A0AF-CB7713B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ABC8-AD01-48E1-A087-F394B83E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FF9E-1056-4D4E-BC44-297C9175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790E-A342-481B-9A6C-BF4CD577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A86CB-12A4-4111-BD7F-EBEFDC04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7C932-8A96-44E8-A340-0110E628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87779-4E95-4391-BC3A-7F84F096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0E275-D0EC-426E-9B76-622EADFB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5EE3-287D-4D8A-8176-2E378C1A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07ECA-175D-4B25-8890-69D1C0AD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8F96-5678-4031-AB3F-0A933F5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EF2-15AD-45CE-AC21-F0A05F39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5DA0A-4C8D-4E91-B725-35CE9FD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0D3B6-89F7-4E1C-B7F9-0FE664C9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14395-376E-491D-A379-CF887413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59059-6D0F-47B3-B916-059756C3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6F65D-2258-4C85-98C0-85F978C3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64E9C-D371-48FC-9153-6206E988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6733B-989D-4677-811A-6EAAF9C0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4E8D-332D-43A8-A191-88154885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1A3F6-10F1-437F-8ED2-AF9822D7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8E497-90DE-4F83-A131-060DBD5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7AC-011D-4DCE-B7F9-E89FE11C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E08E2-BAFB-4FE4-9259-FA36E164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CE2F3-A183-4D86-AAD0-0FA05FA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B2048-B8EB-4E2B-974D-527B0D93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BF406-DAB2-45B3-AFAE-D6D02348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B00E-7F39-4C7E-A5C0-EEDF9CB0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F8F35-F893-488B-866D-3867A103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67975-D9AF-417B-A0D4-457FA571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BFF05-E8A3-4371-836E-32A5FB31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E2278-F373-4A00-9390-8EDCCB3F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9B400-93C5-497F-961F-967F4DB3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316-4587-4B19-A492-198C2BE806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1A49-6549-4731-B0B5-81D1EBCD59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913D-33A6-4142-A42A-1BEA068DAD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4133-333C-47AD-877D-7240F94A39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8DCF-BF13-4826-B260-10945AC92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DE61-4EA9-4BFF-B4B9-EF8E781BD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15B-72A0-495B-8F29-A3A353ABE8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AF3-9127-43A0-A5DF-EE693DC8F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CC1-3D1E-45A7-B025-ECE28525E5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7716-B65E-4FF1-91AB-39AED1CC9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D5A-41CC-4828-97FB-FAC94CD20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82C0-1077-48F8-BE9B-9B18247011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F441-5AF2-4C2E-96CA-9B9BEA93B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1DD0-D1C8-421A-9D3F-8966A6B27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C97E-8A7C-4EB0-B2BB-7EDEEB99B4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659F-921E-462B-AE70-5673D20AEA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E1DB-8015-4408-86EE-664EC7F35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DD3-DB1A-47E6-8FA7-ABDC1DB0D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47E1-C03E-4953-A717-3CE4A522EC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695-03B3-42ED-A1BF-F2F279196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147-E324-4205-AF5C-55AD6D3A20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6E5D-EC3B-4A26-B213-2724F524B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A931-63A7-460E-8D4F-7CAD4DBFAB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BD57-F251-49D7-A229-1C918B73F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CA9-39A2-4FF8-AD7D-C30A07B069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CDCC-3946-4B74-8383-A5B32AFB1B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88D7-9736-4950-917D-4D928AE0D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78C2-63A7-474C-9633-60F30BD1A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E928-11AB-4089-A276-E9CB31FCF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D756-C4EE-4E77-9805-E676FDE64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7D7-19AD-46D1-A671-AD83FD4494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778A-111A-446E-A705-1FCEE2DF9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F71-B419-4D20-9594-AD0A15AAFA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B4ED-1240-43EC-BF85-B2022BF2FE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2DE-B1D8-46B2-AC65-8D96C5984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86A-9F2D-47FE-BBD9-9BE9FE5AF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7D52-7EE1-4ECB-8FFE-C8C3430AA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5A1-AAF4-4165-AE6F-65A3693E3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67F7-F101-4D8F-8446-10412FC116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6C90-F755-456C-888F-EECEFADE6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99C-F45D-46DB-AE7C-B187A5071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CD8C-338C-4E8E-8AD0-9890F1C662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F98-B647-446E-8C65-29B580BB9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8FC8-0563-4439-9E67-1EECB6E1D2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8FF4-B8D4-4BC6-BE28-AA3B764EE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3C90-5263-4A12-A3AF-3651C2A061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311-7AAC-486A-AE2B-8EA4E37DA4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C8A5-2BA5-4591-AFC2-70A18D3FAA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941-8DB6-46A8-B75C-FF5A621FCB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221B-764A-431B-90B3-E6E921C7D9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2067120" cy="7142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1447920" y="3071880"/>
            <a:ext cx="62481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9874" descr=""/>
          <p:cNvPicPr/>
          <p:nvPr/>
        </p:nvPicPr>
        <p:blipFill>
          <a:blip r:embed="rId1"/>
          <a:stretch/>
        </p:blipFill>
        <p:spPr>
          <a:xfrm>
            <a:off x="547560" y="1690560"/>
            <a:ext cx="80488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8849" descr=""/>
          <p:cNvPicPr/>
          <p:nvPr/>
        </p:nvPicPr>
        <p:blipFill>
          <a:blip r:embed="rId1"/>
          <a:stretch/>
        </p:blipFill>
        <p:spPr>
          <a:xfrm>
            <a:off x="503280" y="828720"/>
            <a:ext cx="7991280" cy="3076560"/>
          </a:xfrm>
          <a:prstGeom prst="rect">
            <a:avLst/>
          </a:prstGeom>
          <a:ln w="0">
            <a:noFill/>
          </a:ln>
        </p:spPr>
      </p:pic>
      <p:pic>
        <p:nvPicPr>
          <p:cNvPr id="1455" name="图片 78850" descr=""/>
          <p:cNvPicPr/>
          <p:nvPr/>
        </p:nvPicPr>
        <p:blipFill>
          <a:blip r:embed="rId2"/>
          <a:stretch/>
        </p:blipFill>
        <p:spPr>
          <a:xfrm>
            <a:off x="1011240" y="4229280"/>
            <a:ext cx="6638760" cy="18763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78851"/>
          <p:cNvSpPr/>
          <p:nvPr/>
        </p:nvSpPr>
        <p:spPr>
          <a:xfrm>
            <a:off x="7667640" y="836640"/>
            <a:ext cx="4777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77825" descr=""/>
          <p:cNvPicPr/>
          <p:nvPr/>
        </p:nvPicPr>
        <p:blipFill>
          <a:blip r:embed="rId1"/>
          <a:stretch/>
        </p:blipFill>
        <p:spPr>
          <a:xfrm>
            <a:off x="557280" y="1262160"/>
            <a:ext cx="8029440" cy="4333680"/>
          </a:xfrm>
          <a:prstGeom prst="rect">
            <a:avLst/>
          </a:prstGeom>
          <a:ln w="0">
            <a:noFill/>
          </a:ln>
        </p:spPr>
      </p:pic>
      <p:sp>
        <p:nvSpPr>
          <p:cNvPr id="1458" name="矩形 77826"/>
          <p:cNvSpPr/>
          <p:nvPr/>
        </p:nvSpPr>
        <p:spPr>
          <a:xfrm>
            <a:off x="2484360" y="4221000"/>
            <a:ext cx="83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77827"/>
          <p:cNvSpPr/>
          <p:nvPr/>
        </p:nvSpPr>
        <p:spPr>
          <a:xfrm>
            <a:off x="4284720" y="4724280"/>
            <a:ext cx="83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76801" descr=""/>
          <p:cNvPicPr/>
          <p:nvPr/>
        </p:nvPicPr>
        <p:blipFill>
          <a:blip r:embed="rId1"/>
          <a:stretch/>
        </p:blipFill>
        <p:spPr>
          <a:xfrm>
            <a:off x="561960" y="1209600"/>
            <a:ext cx="80200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89089" descr=""/>
          <p:cNvPicPr/>
          <p:nvPr/>
        </p:nvPicPr>
        <p:blipFill>
          <a:blip r:embed="rId1"/>
          <a:stretch/>
        </p:blipFill>
        <p:spPr>
          <a:xfrm>
            <a:off x="843120" y="1681200"/>
            <a:ext cx="7457760" cy="3495600"/>
          </a:xfrm>
          <a:prstGeom prst="rect">
            <a:avLst/>
          </a:prstGeom>
          <a:ln w="0">
            <a:noFill/>
          </a:ln>
        </p:spPr>
      </p:pic>
      <p:sp>
        <p:nvSpPr>
          <p:cNvPr id="1462" name="矩形 89090"/>
          <p:cNvSpPr/>
          <p:nvPr/>
        </p:nvSpPr>
        <p:spPr>
          <a:xfrm>
            <a:off x="5940360" y="1700280"/>
            <a:ext cx="7509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89091"/>
          <p:cNvSpPr/>
          <p:nvPr/>
        </p:nvSpPr>
        <p:spPr>
          <a:xfrm>
            <a:off x="2023920" y="2685960"/>
            <a:ext cx="432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89092"/>
          <p:cNvSpPr/>
          <p:nvPr/>
        </p:nvSpPr>
        <p:spPr>
          <a:xfrm>
            <a:off x="6443640" y="3141720"/>
            <a:ext cx="43200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89093"/>
          <p:cNvSpPr/>
          <p:nvPr/>
        </p:nvSpPr>
        <p:spPr>
          <a:xfrm>
            <a:off x="1332000" y="3645000"/>
            <a:ext cx="158436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89094"/>
          <p:cNvSpPr/>
          <p:nvPr/>
        </p:nvSpPr>
        <p:spPr>
          <a:xfrm>
            <a:off x="2700360" y="4653000"/>
            <a:ext cx="318780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9011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486560" cy="3714840"/>
          </a:xfrm>
          <a:prstGeom prst="rect">
            <a:avLst/>
          </a:prstGeom>
          <a:ln w="0">
            <a:noFill/>
          </a:ln>
        </p:spPr>
      </p:pic>
      <p:sp>
        <p:nvSpPr>
          <p:cNvPr id="1468" name="矩形 90114"/>
          <p:cNvSpPr/>
          <p:nvPr/>
        </p:nvSpPr>
        <p:spPr>
          <a:xfrm>
            <a:off x="7380360" y="1989000"/>
            <a:ext cx="4316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1137" descr=""/>
          <p:cNvPicPr/>
          <p:nvPr/>
        </p:nvPicPr>
        <p:blipFill>
          <a:blip r:embed="rId1"/>
          <a:stretch/>
        </p:blipFill>
        <p:spPr>
          <a:xfrm>
            <a:off x="561960" y="1495440"/>
            <a:ext cx="8020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2161" descr=""/>
          <p:cNvPicPr/>
          <p:nvPr/>
        </p:nvPicPr>
        <p:blipFill>
          <a:blip r:embed="rId1"/>
          <a:stretch/>
        </p:blipFill>
        <p:spPr>
          <a:xfrm>
            <a:off x="714240" y="1212840"/>
            <a:ext cx="7439040" cy="184788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92162" descr=""/>
          <p:cNvPicPr/>
          <p:nvPr/>
        </p:nvPicPr>
        <p:blipFill>
          <a:blip r:embed="rId2"/>
          <a:stretch/>
        </p:blipFill>
        <p:spPr>
          <a:xfrm>
            <a:off x="1208160" y="3197160"/>
            <a:ext cx="6829200" cy="193356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2163"/>
          <p:cNvSpPr/>
          <p:nvPr/>
        </p:nvSpPr>
        <p:spPr>
          <a:xfrm>
            <a:off x="1476360" y="1711440"/>
            <a:ext cx="15112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2164"/>
          <p:cNvSpPr/>
          <p:nvPr/>
        </p:nvSpPr>
        <p:spPr>
          <a:xfrm>
            <a:off x="3924360" y="220356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2165"/>
          <p:cNvSpPr/>
          <p:nvPr/>
        </p:nvSpPr>
        <p:spPr>
          <a:xfrm>
            <a:off x="1547640" y="465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92166"/>
          <p:cNvSpPr/>
          <p:nvPr/>
        </p:nvSpPr>
        <p:spPr>
          <a:xfrm>
            <a:off x="6659640" y="4675320"/>
            <a:ext cx="91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3185" descr=""/>
          <p:cNvPicPr/>
          <p:nvPr/>
        </p:nvPicPr>
        <p:blipFill>
          <a:blip r:embed="rId1"/>
          <a:stretch/>
        </p:blipFill>
        <p:spPr>
          <a:xfrm>
            <a:off x="542880" y="795240"/>
            <a:ext cx="8058240" cy="526752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3186"/>
          <p:cNvSpPr/>
          <p:nvPr/>
        </p:nvSpPr>
        <p:spPr>
          <a:xfrm>
            <a:off x="7812000" y="2997360"/>
            <a:ext cx="43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4209" descr=""/>
          <p:cNvPicPr/>
          <p:nvPr/>
        </p:nvPicPr>
        <p:blipFill>
          <a:blip r:embed="rId1"/>
          <a:stretch/>
        </p:blipFill>
        <p:spPr>
          <a:xfrm>
            <a:off x="1500120" y="2114640"/>
            <a:ext cx="61437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48880" cy="567684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6"/>
          <p:cNvSpPr/>
          <p:nvPr/>
        </p:nvSpPr>
        <p:spPr>
          <a:xfrm>
            <a:off x="7773840" y="4098960"/>
            <a:ext cx="47808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95233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96257" descr=""/>
          <p:cNvPicPr/>
          <p:nvPr/>
        </p:nvPicPr>
        <p:blipFill>
          <a:blip r:embed="rId1"/>
          <a:stretch/>
        </p:blipFill>
        <p:spPr>
          <a:xfrm>
            <a:off x="468360" y="733320"/>
            <a:ext cx="8058240" cy="5934240"/>
          </a:xfrm>
          <a:prstGeom prst="rect">
            <a:avLst/>
          </a:prstGeom>
          <a:ln w="0">
            <a:noFill/>
          </a:ln>
        </p:spPr>
      </p:pic>
      <p:sp>
        <p:nvSpPr>
          <p:cNvPr id="1481" name="矩形 96258"/>
          <p:cNvSpPr/>
          <p:nvPr/>
        </p:nvSpPr>
        <p:spPr>
          <a:xfrm>
            <a:off x="7740720" y="328464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97281" descr=""/>
          <p:cNvPicPr/>
          <p:nvPr/>
        </p:nvPicPr>
        <p:blipFill>
          <a:blip r:embed="rId1"/>
          <a:stretch/>
        </p:blipFill>
        <p:spPr>
          <a:xfrm>
            <a:off x="552600" y="1947960"/>
            <a:ext cx="80388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8704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5915160"/>
          </a:xfrm>
          <a:prstGeom prst="rect">
            <a:avLst/>
          </a:prstGeom>
          <a:ln w="0">
            <a:noFill/>
          </a:ln>
        </p:spPr>
      </p:pic>
      <p:sp>
        <p:nvSpPr>
          <p:cNvPr id="1437" name="矩形 87042"/>
          <p:cNvSpPr/>
          <p:nvPr/>
        </p:nvSpPr>
        <p:spPr>
          <a:xfrm>
            <a:off x="7020000" y="725400"/>
            <a:ext cx="6080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7043"/>
          <p:cNvSpPr/>
          <p:nvPr/>
        </p:nvSpPr>
        <p:spPr>
          <a:xfrm>
            <a:off x="6877080" y="3284640"/>
            <a:ext cx="1392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7044"/>
          <p:cNvSpPr/>
          <p:nvPr/>
        </p:nvSpPr>
        <p:spPr>
          <a:xfrm>
            <a:off x="4356000" y="3789360"/>
            <a:ext cx="6080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7045"/>
          <p:cNvSpPr/>
          <p:nvPr/>
        </p:nvSpPr>
        <p:spPr>
          <a:xfrm>
            <a:off x="5435640" y="4292640"/>
            <a:ext cx="80964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6017" descr=""/>
          <p:cNvPicPr/>
          <p:nvPr/>
        </p:nvPicPr>
        <p:blipFill>
          <a:blip r:embed="rId1"/>
          <a:stretch/>
        </p:blipFill>
        <p:spPr>
          <a:xfrm>
            <a:off x="533520" y="1438200"/>
            <a:ext cx="8076960" cy="39816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6018"/>
          <p:cNvSpPr/>
          <p:nvPr/>
        </p:nvSpPr>
        <p:spPr>
          <a:xfrm>
            <a:off x="7812000" y="5013360"/>
            <a:ext cx="47808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4993" descr=""/>
          <p:cNvPicPr/>
          <p:nvPr/>
        </p:nvPicPr>
        <p:blipFill>
          <a:blip r:embed="rId1"/>
          <a:stretch/>
        </p:blipFill>
        <p:spPr>
          <a:xfrm>
            <a:off x="1081080" y="909720"/>
            <a:ext cx="6981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3969" descr=""/>
          <p:cNvPicPr/>
          <p:nvPr/>
        </p:nvPicPr>
        <p:blipFill>
          <a:blip r:embed="rId1"/>
          <a:stretch/>
        </p:blipFill>
        <p:spPr>
          <a:xfrm>
            <a:off x="600120" y="1380960"/>
            <a:ext cx="8048520" cy="137160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83970" descr=""/>
          <p:cNvPicPr/>
          <p:nvPr/>
        </p:nvPicPr>
        <p:blipFill>
          <a:blip r:embed="rId2"/>
          <a:stretch/>
        </p:blipFill>
        <p:spPr>
          <a:xfrm>
            <a:off x="1039680" y="2868480"/>
            <a:ext cx="7543800" cy="18194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3971"/>
          <p:cNvSpPr/>
          <p:nvPr/>
        </p:nvSpPr>
        <p:spPr>
          <a:xfrm>
            <a:off x="7812000" y="1844640"/>
            <a:ext cx="4780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2945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10720" cy="529596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2946"/>
          <p:cNvSpPr/>
          <p:nvPr/>
        </p:nvSpPr>
        <p:spPr>
          <a:xfrm>
            <a:off x="7740720" y="2276640"/>
            <a:ext cx="4777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81921" descr=""/>
          <p:cNvPicPr/>
          <p:nvPr/>
        </p:nvPicPr>
        <p:blipFill>
          <a:blip r:embed="rId1"/>
          <a:stretch/>
        </p:blipFill>
        <p:spPr>
          <a:xfrm>
            <a:off x="566640" y="1523880"/>
            <a:ext cx="8010720" cy="3810240"/>
          </a:xfrm>
          <a:prstGeom prst="rect">
            <a:avLst/>
          </a:prstGeom>
          <a:ln w="0">
            <a:noFill/>
          </a:ln>
        </p:spPr>
      </p:pic>
      <p:sp>
        <p:nvSpPr>
          <p:cNvPr id="1450" name="矩形 81922"/>
          <p:cNvSpPr/>
          <p:nvPr/>
        </p:nvSpPr>
        <p:spPr>
          <a:xfrm>
            <a:off x="7812000" y="2997360"/>
            <a:ext cx="47808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80897" descr=""/>
          <p:cNvPicPr/>
          <p:nvPr/>
        </p:nvPicPr>
        <p:blipFill>
          <a:blip r:embed="rId1"/>
          <a:stretch/>
        </p:blipFill>
        <p:spPr>
          <a:xfrm>
            <a:off x="538200" y="1247760"/>
            <a:ext cx="8067600" cy="43624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80898"/>
          <p:cNvSpPr/>
          <p:nvPr/>
        </p:nvSpPr>
        <p:spPr>
          <a:xfrm>
            <a:off x="7812000" y="1773360"/>
            <a:ext cx="47808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2:09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